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71A-1F24-4182-90FB-D2486516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1827-4E6B-4344-B62D-F3FA439E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B9B-7667-42D1-9BAC-60476E0B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2DF-3B85-4FAD-A501-C49A48F5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CF18-4D0D-436E-975B-93637955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D237-8801-4DE2-9041-EF8D042D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D455-022C-41C3-B576-548B1CD5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9024-DBB7-4D5A-A1B0-2CC05487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4610-A904-4193-88BB-6EB9947D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79DD-FB57-41BE-8CB7-8C39D947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BC47-1300-4007-9521-72672B8E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22A-67EC-4E93-A77C-1BC3D097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C157-4860-4CC4-A3DE-95B20360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F8B9-C25C-46AB-BB6B-FD113611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9026-5FBD-4B74-B46C-12E154A9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418E-5FFA-44A1-8B44-1CEC8C59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4228-AD4E-4EF3-B28E-5FC7379E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002-EFE5-40AE-AF8D-38D6DAE3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1E4-EE3F-41C8-840A-B4EDFF9E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EAB-886F-4A64-9ECC-5B19E5A4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A27D-0174-48C6-A039-183C12CE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F90-53C9-42A1-9467-655C2DD5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8E3-5031-4FBD-AC43-B5595C06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D7D-CBF4-4D47-A476-E3E1B3DF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CBB4-1CB6-4711-A975-11DAC0C835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6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a4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a452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BFD5-F7AD-40D1-BC35-BF233E4AB4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wtoon.com/show/dkwK8d8Pf3I/multiple-inligences-theory/#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2QtSbP4FR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ultiple Intelligences (MI)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2997000"/>
            <a:ext cx="6248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esentation of H. Gardner’s the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ikeria Seli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ikeriaselimi@gmail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) Pluraliza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ne topic taught in multiple ways reaches many students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orough understanding of a topic means several ways of thinking it, thus, use of multiple intelligences.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 of student-centered activities associated to the different learning prof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91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odily/Kinestheti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nce, pantomime, play, role play, puppet sho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perso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bate, interview, play, role pl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perso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ary, journal, poem, time-l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nguistic/Verb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iry tale, fiction story, poem, report, play, deb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-151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gical/Mathematic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art, mind map, riddle, puzzle, diagra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usic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ng, poem, role play, fil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aturali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orama, field study, collection of fossils, insects etc, photo ess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patial/Visu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rtoon, chart, maze, mobile, pictures, colla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multiple%20intelligenc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54380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209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.wikipedia.org/wiki/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a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rdn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niu.edu/facdev/resources/guide/learning/howard_gardner_theory_multiple_intelligences.p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scholar.google.gr/scholar_url?hl=en&amp;q=http://ftp.beitberl.ac.il/~bbsite/misc/ezer_anglit/klali/99_89.doc&amp;sa=X&amp;scisig=AAGBfm2Rxoafv8U4DZICKpuZbYWTjHTy-g&amp;oi=scholarr&amp;ei=_xBaVMXiN8vJPZ7mgfgJ&amp;ved=0CB0QgAMoATA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lation between Multiple Intelligences Theory and Methods of EL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Gasm Alseed Ahme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ternational Journal of Learning and Teachin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 4, issue 2 (2012) 26-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0" y="1773360"/>
            <a:ext cx="856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s of Mind: The Theory of Multiple Intelligences, H. Gardner, 1983, Basic Books, New Yo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multipleintelligencesoasis.org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education.com/reference/article/Gardners-multiple-intelligenc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5"/>
          <p:cNvGraphicFramePr/>
          <p:nvPr/>
        </p:nvGraphicFramePr>
        <p:xfrm>
          <a:off x="0" y="0"/>
          <a:ext cx="9144000" cy="68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5870520" y="6155640"/>
            <a:ext cx="327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2195640" y="6216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69900"/>
                </a:solidFill>
                <a:uFillTx/>
                <a:latin typeface="Arial"/>
                <a:hlinkClick r:id="rId1"/>
              </a:rPr>
              <a:t>http://www.powtoon.com/show/dkwK8d8Pf3I/multiple-inligences-theory/#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four-brothers-WEB"/>
          <p:cNvPicPr/>
          <p:nvPr/>
        </p:nvPicPr>
        <p:blipFill>
          <a:blip r:embed="rId2"/>
          <a:stretch/>
        </p:blipFill>
        <p:spPr>
          <a:xfrm>
            <a:off x="1042920" y="836640"/>
            <a:ext cx="6840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differentiated learning 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ilosophy for effective teaching that involves providing different students with different ways to lear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fferent learning nee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sonalized instruct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assrooms responsive to student variety in readiness levels, interests and learning profi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asks addressing students’ individual need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Howard E. Gardner</a:t>
            </a:r>
            <a:br>
              <a:rPr sz="3900"/>
            </a:b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he father of MI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3986280" y="2543040"/>
            <a:ext cx="117144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4276800" y="2986200"/>
            <a:ext cx="590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1" descr="gardner"/>
          <p:cNvPicPr/>
          <p:nvPr/>
        </p:nvPicPr>
        <p:blipFill>
          <a:blip r:embed="rId1"/>
          <a:stretch/>
        </p:blipFill>
        <p:spPr>
          <a:xfrm>
            <a:off x="755640" y="1700280"/>
            <a:ext cx="1743120" cy="26193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4"/>
          <p:cNvSpPr/>
          <p:nvPr/>
        </p:nvSpPr>
        <p:spPr>
          <a:xfrm>
            <a:off x="324000" y="457956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ard Earl Gardn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born July 11, 1943) is an American developmental psychologist and a professor at Harvard University. He introduced his theory of Multiple Intelligences in his book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rames of Mind: The Theory of Multiple Intelligenc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198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4360" y="388872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Screen-Shot-2013-06-24-at-12"/>
          <p:cNvPicPr/>
          <p:nvPr/>
        </p:nvPicPr>
        <p:blipFill>
          <a:blip r:embed="rId1"/>
          <a:stretch/>
        </p:blipFill>
        <p:spPr>
          <a:xfrm>
            <a:off x="900000" y="90792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12760" y="2287800"/>
            <a:ext cx="893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Gardner himself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uman beings possess not just a single intelligence…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… are better described as having a set of  relatively autonomous intelligences.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2286000" y="4929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s://www.youtube.com/watch?v=l2QtSbP4F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286000" y="5643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669900"/>
                </a:solidFill>
                <a:uFillTx/>
                <a:latin typeface="Arial"/>
                <a:hlinkClick r:id="rId1"/>
              </a:rPr>
              <a:t>https://www.youtube.com/watch?v=l2QtSbP4F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6" descr="PENSAMIENTO-CREATIVO-1"/>
          <p:cNvPicPr/>
          <p:nvPr/>
        </p:nvPicPr>
        <p:blipFill>
          <a:blip r:embed="rId2"/>
          <a:stretch/>
        </p:blipFill>
        <p:spPr>
          <a:xfrm>
            <a:off x="2195640" y="549360"/>
            <a:ext cx="4897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multiple-intelligences-learning-styl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 educators make use of MIT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oug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dividualiza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aching and assessment that bring out each child’s capac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5T10:51:23Z</dcterms:created>
  <dc:creator>PERIBIN</dc:creator>
  <dc:description/>
  <dc:language>en-US</dc:language>
  <cp:lastModifiedBy>Annie!</cp:lastModifiedBy>
  <dcterms:modified xsi:type="dcterms:W3CDTF">2014-11-25T16:38:04Z</dcterms:modified>
  <cp:revision>25</cp:revision>
  <dc:subject/>
  <dc:title>Multiple Intelligences (MI)</dc:title>
</cp:coreProperties>
</file>